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</p:sldIdLst>
  <p:sldSz cx="12188825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5413B-BEDB-446C-80FC-0BCEE9E27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F5A03-05FF-400D-9206-7C128BCE5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902B9-C775-4739-BD33-DDD381F12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514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858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1744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5514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858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80741-78E5-4E90-89EE-740D1D4E2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862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1117440" y="76320"/>
            <a:ext cx="101570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862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A3658-8FEC-44AE-9C30-98DFC05F2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514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79858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111744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45514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79858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862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00272-91ED-48DB-B06F-CB1A26F53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1117440" y="76320"/>
            <a:ext cx="101570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514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79858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111744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45514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79858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1A79E-164E-4FBC-BD55-D4A421486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862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E5AE1-0160-40BB-A27A-AA2476F73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37C2D-C0B6-4642-9588-755FA6BD8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7804E-49E1-4DB6-8167-736FF48BE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7D82C-12A5-418F-AECD-66AABCB82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BEEF1-48EB-4484-979B-23BD7E0DA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1117440" y="76320"/>
            <a:ext cx="101570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74B62-43A4-4D13-B2EF-CEB1BC717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E6F75-1746-4DE0-BB51-9D31B9D6C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8AFDD-2D43-4141-8FCD-ECC517DE9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EA004-DF84-45A1-9C31-F4FF25366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97415-B3AA-4D3E-972A-ACA4FC128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D55CD-22C8-4AE5-BA71-89FB91533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514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79858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111744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45514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79858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D582B-74EB-44D3-8315-7A646FBC2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3455A4-1025-4C86-B791-3686D429F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F2BA2-EDBD-44A1-BC1C-78E226827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862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DF4230-2ED2-4F1C-9565-557890B39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2F204E-06D9-4A15-A5FF-BD5C5E2BF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E9D1A8-4A64-4C56-8C81-9854A37C5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643643-92B0-4712-8959-82211A557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1117440" y="76320"/>
            <a:ext cx="101570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02605B-3309-470F-A3CA-021987F74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58E568-186C-4782-B4AE-7D6E1E8AB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DE2E8A-F673-4747-9636-83DF98266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473FA6-A70B-43BF-BB6C-6A5BA5CC2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8DE26D-90BC-4D32-B373-AC7ECDBED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9CC5A4-6B98-4433-9668-4E8B93E37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17440" y="76320"/>
            <a:ext cx="101570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DB13C-44DF-477C-8E91-06FD5DA5C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514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79858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111744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45514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79858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E0B8C6-D5C2-43CB-BBE4-84FD14EA5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C3775A-0377-4470-859A-D6B57CF7A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862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38898A-31BC-40D2-A001-5267F430D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11E268-1421-4962-B0DE-F6D5E6353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A19310-DB8E-46F9-BB0E-0F0972258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2F6996-2D68-4983-80CE-6AF5C38D0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1117440" y="76320"/>
            <a:ext cx="101570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EB7503-7BE5-4633-8D34-416E7DAB0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37964B-D9A8-4CD5-A503-E4E09B804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E3F7AB-97FF-4E03-8318-8512EAB1D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D49170-B407-4B89-AF8F-2573726B6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814E7-E7C5-4F26-BCAE-A33BE51D9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1ABF7F-80A1-4988-BE74-0833C32CD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6D1BBF-2A1F-4572-83F9-60877F43A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514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79858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111744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45514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79858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35D7E5-B604-463C-A612-C6FEDFA31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14434-6577-428B-A3C4-F33569054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2568C-9AAC-4A3D-9001-2BC91AA41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rostokąt 8"/>
          <p:cNvSpPr/>
          <p:nvPr/>
        </p:nvSpPr>
        <p:spPr>
          <a:xfrm>
            <a:off x="304920" y="0"/>
            <a:ext cx="11579040" cy="6858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55294"/>
                </a:srgbClr>
              </a:gs>
            </a:gsLst>
            <a:lin ang="7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400" spc="-1" strike="noStrike">
                <a:solidFill>
                  <a:srgbClr val="374c81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1" marL="73008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2" marL="115740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3" marL="158436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4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5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6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117440" y="6400440"/>
            <a:ext cx="274176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pl-PL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12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908520" y="6400440"/>
            <a:ext cx="621504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10167840" y="6400440"/>
            <a:ext cx="110664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pl-PL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fld id="{3B313AC5-7E1E-42AE-830C-5C3104478AB9}" type="slidenum">
              <a:rPr b="0" lang="pl-PL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400" spc="-1" strike="noStrike">
                <a:solidFill>
                  <a:srgbClr val="374c81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1" marL="73008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2" marL="115740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3" marL="158436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4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5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6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400" spc="-1" strike="noStrike">
                <a:solidFill>
                  <a:srgbClr val="374c81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1" marL="73008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2" marL="115740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3" marL="158436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4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5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6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400" spc="-1" strike="noStrike">
                <a:solidFill>
                  <a:srgbClr val="374c81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1" marL="73008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2" marL="115740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3" marL="158436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4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5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6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dt" idx="4"/>
          </p:nvPr>
        </p:nvSpPr>
        <p:spPr>
          <a:xfrm>
            <a:off x="1117440" y="6400440"/>
            <a:ext cx="274176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pl-PL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12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 type="ftr" idx="5"/>
          </p:nvPr>
        </p:nvSpPr>
        <p:spPr>
          <a:xfrm>
            <a:off x="3908520" y="6400440"/>
            <a:ext cx="621504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 type="sldNum" idx="6"/>
          </p:nvPr>
        </p:nvSpPr>
        <p:spPr>
          <a:xfrm>
            <a:off x="10167840" y="6400440"/>
            <a:ext cx="110664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pl-PL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fld id="{6C2F3D3B-1B16-48C6-ADC1-DE1F3BE101E6}" type="slidenum">
              <a:rPr b="0" lang="pl-PL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rostokąt 7"/>
          <p:cNvSpPr/>
          <p:nvPr/>
        </p:nvSpPr>
        <p:spPr>
          <a:xfrm>
            <a:off x="3960720" y="0"/>
            <a:ext cx="7923240" cy="6858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55294"/>
                </a:srgbClr>
              </a:gs>
            </a:gsLst>
            <a:lin ang="7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400" spc="-1" strike="noStrike">
                <a:solidFill>
                  <a:srgbClr val="374c81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1" marL="73008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2" marL="115740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3" marL="158436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4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5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6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dt" idx="7"/>
          </p:nvPr>
        </p:nvSpPr>
        <p:spPr>
          <a:xfrm>
            <a:off x="1117440" y="6400440"/>
            <a:ext cx="274176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pl-PL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12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 type="ftr" idx="8"/>
          </p:nvPr>
        </p:nvSpPr>
        <p:spPr>
          <a:xfrm>
            <a:off x="3908520" y="6400440"/>
            <a:ext cx="621504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 type="sldNum" idx="9"/>
          </p:nvPr>
        </p:nvSpPr>
        <p:spPr>
          <a:xfrm>
            <a:off x="10167840" y="6400440"/>
            <a:ext cx="110664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pl-PL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fld id="{DE4B5E68-FE32-4771-97DC-14A3C6D7C8A7}" type="slidenum">
              <a:rPr b="0" lang="pl-PL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rostokąt 7"/>
          <p:cNvSpPr/>
          <p:nvPr/>
        </p:nvSpPr>
        <p:spPr>
          <a:xfrm>
            <a:off x="2082960" y="0"/>
            <a:ext cx="8022960" cy="6858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55294"/>
                </a:srgbClr>
              </a:gs>
            </a:gsLst>
            <a:lin ang="7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400" spc="-1" strike="noStrike">
                <a:solidFill>
                  <a:srgbClr val="374c81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1" marL="73008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2" marL="115740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3" marL="158436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4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5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6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dt" idx="10"/>
          </p:nvPr>
        </p:nvSpPr>
        <p:spPr>
          <a:xfrm>
            <a:off x="1117440" y="6400440"/>
            <a:ext cx="274176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pl-PL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12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 type="ftr" idx="11"/>
          </p:nvPr>
        </p:nvSpPr>
        <p:spPr>
          <a:xfrm>
            <a:off x="3908520" y="6400440"/>
            <a:ext cx="621504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 type="sldNum" idx="12"/>
          </p:nvPr>
        </p:nvSpPr>
        <p:spPr>
          <a:xfrm>
            <a:off x="10167840" y="6400440"/>
            <a:ext cx="110664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pl-PL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fld id="{D9700CB5-755A-4729-B0A1-B0AF21DD13AB}" type="slidenum">
              <a:rPr b="0" lang="pl-PL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671720" y="1498320"/>
            <a:ext cx="7008840" cy="22906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pl-PL" sz="5400" spc="-1" strike="noStrike">
                <a:solidFill>
                  <a:srgbClr val="374c81"/>
                </a:solidFill>
                <a:latin typeface="Century Gothic"/>
              </a:rPr>
              <a:t>Fiszki autokorektywne</a:t>
            </a:r>
            <a:endParaRPr b="0" lang="en-US" sz="5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44" name="Prostokąt zaokrąglony 4"/>
          <p:cNvSpPr/>
          <p:nvPr/>
        </p:nvSpPr>
        <p:spPr>
          <a:xfrm>
            <a:off x="4078440" y="4149720"/>
            <a:ext cx="2447640" cy="1511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7e5c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2400" spc="-1" strike="noStrike">
                <a:solidFill>
                  <a:srgbClr val="374c81"/>
                </a:solidFill>
                <a:latin typeface="Century Gothic"/>
              </a:rPr>
              <a:t>Pytania łatwe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45" name="Prostokąt zaokrąglony 5"/>
          <p:cNvSpPr/>
          <p:nvPr/>
        </p:nvSpPr>
        <p:spPr>
          <a:xfrm>
            <a:off x="6670800" y="4149720"/>
            <a:ext cx="2447640" cy="1511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7e5c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2400" spc="-1" strike="noStrike">
                <a:solidFill>
                  <a:srgbClr val="374c81"/>
                </a:solidFill>
                <a:latin typeface="Century Gothic"/>
              </a:rPr>
              <a:t>Pytania średnio trudne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46" name="Prostokąt zaokrąglony 6"/>
          <p:cNvSpPr/>
          <p:nvPr/>
        </p:nvSpPr>
        <p:spPr>
          <a:xfrm>
            <a:off x="9271080" y="4149720"/>
            <a:ext cx="2448000" cy="1511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7e5c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2400" spc="-1" strike="noStrike" u="sng">
                <a:solidFill>
                  <a:srgbClr val="0070c0"/>
                </a:solidFill>
                <a:uFillTx/>
                <a:latin typeface="Century Gothic"/>
                <a:hlinkClick r:id="rId1" action="ppaction://hlinksldjump"/>
              </a:rPr>
              <a:t>Pytania trudne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1117440" y="1988640"/>
            <a:ext cx="10157040" cy="7923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 fontScale="71000"/>
          </a:bodyPr>
          <a:p>
            <a:pPr marL="214920" indent="-2149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3200" spc="-1" strike="noStrike">
                <a:solidFill>
                  <a:srgbClr val="374c81"/>
                </a:solidFill>
                <a:latin typeface="Century Gothic"/>
              </a:rPr>
              <a:t>W jakich okolicznościach układamy poszkodowanego w pozycji czterokończynowej, a w jakich w pozycji bezpiecznej?</a:t>
            </a:r>
            <a:endParaRPr b="0" lang="en-US" sz="32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48" name="Strzałka w prawo 1"/>
          <p:cNvSpPr/>
          <p:nvPr/>
        </p:nvSpPr>
        <p:spPr>
          <a:xfrm>
            <a:off x="9263160" y="5877000"/>
            <a:ext cx="2011320" cy="792000"/>
          </a:xfrm>
          <a:prstGeom prst="rightArrow">
            <a:avLst>
              <a:gd name="adj1" fmla="val 50000"/>
              <a:gd name="adj2" fmla="val 50015"/>
            </a:avLst>
          </a:prstGeom>
          <a:solidFill>
            <a:srgbClr val="ffffff"/>
          </a:solidFill>
          <a:ln w="12600">
            <a:solidFill>
              <a:srgbClr val="7e5c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2000" spc="-1" strike="noStrike" u="sng">
                <a:solidFill>
                  <a:srgbClr val="0070c0"/>
                </a:solidFill>
                <a:uFillTx/>
                <a:latin typeface="Century Gothic"/>
                <a:hlinkClick r:id="rId1" action="ppaction://hlinksldjump"/>
              </a:rPr>
              <a:t>Odpowiedź</a:t>
            </a:r>
            <a:endParaRPr b="0" lang="en-US" sz="20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1198440" y="1844280"/>
            <a:ext cx="10220400" cy="310212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2400" spc="-1" strike="noStrike">
                <a:solidFill>
                  <a:srgbClr val="374c81"/>
                </a:solidFill>
                <a:latin typeface="Century Gothic"/>
              </a:rPr>
              <a:t>W pozycji czterokończynowej układamy poszkodowanego </a:t>
            </a:r>
            <a:br>
              <a:rPr sz="2400"/>
            </a:br>
            <a:r>
              <a:rPr b="0" lang="pl-PL" sz="2400" spc="-1" strike="noStrike">
                <a:solidFill>
                  <a:srgbClr val="374c81"/>
                </a:solidFill>
                <a:latin typeface="Century Gothic"/>
              </a:rPr>
              <a:t>w sytuacji omdlenia, a w pozycji bezpiecznej w sytuacji utraty przytomności 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18T14:36:12Z</dcterms:created>
  <dc:creator/>
  <dc:description/>
  <cp:keywords/>
  <dc:language>en-US</dc:language>
  <cp:lastModifiedBy/>
  <dcterms:modified xsi:type="dcterms:W3CDTF">2013-08-18T15:50:36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27879409991</vt:lpwstr>
  </property>
</Properties>
</file>